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59485-5ADA-454E-A6A4-0DE775DA0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8FEF8-0AE9-4940-ACF3-83739500E1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E3D0B-E769-4B21-A296-2AF91B52F8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24CD3-E165-470F-8953-52642AED8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CA060-748B-421E-A89D-C101EA8BD1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751B7-6005-4664-8A55-8E598CADF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4E904-AAAC-4F75-B3AA-4A65CE4D15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3B6D3-067D-40C0-BE12-69B10B98CE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22B64-E525-4A9A-8A9A-9438750BC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83B80-1A7A-4253-8B05-19398DC63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75558-EF21-4DDB-AA40-2A09233DC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08850-58C4-4FE4-9B15-67ED78503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4B72-F3B5-4119-86D4-C187BC070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C4BEF-73A5-40BB-A8F1-7D0FF9DEF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6D658-B524-4C5A-A491-BD4787A1E5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2BB5E-13CF-438D-BF13-BB2345D2C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36740-1E60-45CA-A005-5BE7AB00DA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0D558-77CE-4D85-BABE-0789ADBB8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CADBD-E2D4-41FC-AFA7-E8CB1FD60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A1525-3D40-4E46-A610-4D3476A2D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59611-E2D3-4A94-A90A-8D6E0258A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3D6F3-22ED-4562-9611-4231186E09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350B-BB8A-44A9-8DF7-2A3FACA31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6E714-E08F-4148-8F4D-EFF3EDA8CE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74640" y="248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74640" y="248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74640" y="248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685800" cy="6856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1442880"/>
            <a:ext cx="4724280" cy="15264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818181"/>
              </a:gs>
              <a:gs pos="50000">
                <a:srgbClr val="cccccc"/>
              </a:gs>
              <a:gs pos="100000">
                <a:srgbClr val="81818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3560" y="452520"/>
            <a:ext cx="8380440" cy="761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1447920"/>
            <a:ext cx="9142560" cy="1752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0"/>
            <a:ext cx="685800" cy="6856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0" y="1442880"/>
            <a:ext cx="4724280" cy="15264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818181"/>
              </a:gs>
              <a:gs pos="50000">
                <a:srgbClr val="cccccc"/>
              </a:gs>
              <a:gs pos="100000">
                <a:srgbClr val="81818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763560" y="452520"/>
            <a:ext cx="8380440" cy="761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onlinestatbook.com/chapter5/probability.html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1599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w Cen MT Condensed"/>
              </a:rPr>
              <a:t>Natural Language Processing</a:t>
            </a:r>
            <a:endParaRPr b="0" lang="en-US" sz="5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447920" y="3276360"/>
            <a:ext cx="716256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alibri"/>
              </a:rPr>
              <a:t>Giuseppe Attard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roduction to Probabil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880920" y="5715000"/>
            <a:ext cx="770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IP notice: some slides from: Dan Jurafsky, Jim Martin, Sandiway Fong, Dan Kle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440" y="1698480"/>
            <a:ext cx="807732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periment involving 3 coin toss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utcome is a 3-long string of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 ={HHH, HHT, HTH, HTT, THH, THT, TTH, TTT}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ssume each outcome is equiprobab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niform distribution</a:t>
            </a:r>
            <a:r>
              <a:rPr b="0" lang="ja-JP" sz="22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 is probability of the event that exactly 2 heads occur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{HHT, HTH, THH}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{HHT})+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{HTH})+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{THH}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 1/8 + 1/8 + 1/8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3/8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w Cen MT Condensed"/>
              </a:rPr>
              <a:t>Probability definitions</a:t>
            </a:r>
            <a:endParaRPr b="0" lang="en-US" sz="4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summary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bability of drawing a spade from 52 well-shuffled playing cards: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6"/>
              <p:cNvSpPr txBox="1"/>
              <p:nvPr/>
            </p:nvSpPr>
            <p:spPr>
              <a:xfrm>
                <a:off x="3048120" y="4724280"/>
                <a:ext cx="25812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6"/>
              <p:cNvSpPr txBox="1"/>
              <p:nvPr/>
            </p:nvSpPr>
            <p:spPr>
              <a:xfrm>
                <a:off x="1257480" y="2251080"/>
                <a:ext cx="666720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utcome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rresponding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vent</m:t>
                        </m:r>
                        <m:r>
                          <m:t xml:space="preserve"> </m:t>
                        </m:r>
                        <m:r>
                          <m:t xml:space="preserve">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utcome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Probabilities of two event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two event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r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independe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.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B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the same wheth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A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ccurred or n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ip a fair coin twi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is the probability that they are both head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aw a card from a deck, then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put it bac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draw a card from the deck ag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is the probability that both drawn cards are heart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80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 Condensed"/>
              </a:rPr>
              <a:t>How about non-uniform probabilities? An example</a:t>
            </a: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biased coin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ice as likely to come up tails as heads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 tossed tw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the probability that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t least one head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ccur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mple space = {hh, ht, th, tt} (h = heads, t = tail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mple points/probability for the event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 1/3 x 2/3 = </a:t>
            </a:r>
            <a:r>
              <a:rPr b="1" lang="en-US" sz="2400" spc="-1" strike="noStrike">
                <a:solidFill>
                  <a:srgbClr val="a50021"/>
                </a:solidFill>
                <a:latin typeface="Calibri"/>
              </a:rPr>
              <a:t>2/9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h 1/3 x 1/3= </a:t>
            </a:r>
            <a:r>
              <a:rPr b="1" lang="en-US" sz="2400" spc="-1" strike="noStrike">
                <a:solidFill>
                  <a:srgbClr val="a50021"/>
                </a:solidFill>
                <a:latin typeface="Calibri"/>
              </a:rPr>
              <a:t>1/9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 2/3 x 1/3 = </a:t>
            </a:r>
            <a:r>
              <a:rPr b="1" lang="en-US" sz="2400" spc="-1" strike="noStrike">
                <a:solidFill>
                  <a:srgbClr val="a50021"/>
                </a:solidFill>
                <a:latin typeface="Calibri"/>
              </a:rPr>
              <a:t>2/9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t 2/3 x 2/3 = 4/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swer: 5/9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0.56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um of weights in </a:t>
            </a:r>
            <a:r>
              <a:rPr b="1" i="1" lang="en-US" sz="2800" spc="-1" strike="noStrike">
                <a:solidFill>
                  <a:srgbClr val="a50021"/>
                </a:solidFill>
                <a:latin typeface="Calibri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 1 - 4/9 (prob. of complemen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omputing Probabiliti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counts (when outcomes are equally probabl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 of union of disjoint ev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of multiple independent ev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rect probability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1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3"/>
              <p:cNvSpPr txBox="1"/>
              <p:nvPr/>
            </p:nvSpPr>
            <p:spPr>
              <a:xfrm>
                <a:off x="3517920" y="2333520"/>
                <a:ext cx="166068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Moving toward languag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 the probability of drawing a 2 from a deck of 52 cards with four 2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 the probability of a random word (from a random dictionary page) being a verb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2"/>
              <p:cNvSpPr txBox="1"/>
              <p:nvPr/>
            </p:nvSpPr>
            <p:spPr>
              <a:xfrm>
                <a:off x="1981080" y="2598840"/>
                <a:ext cx="509292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rawing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two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3"/>
              <p:cNvSpPr txBox="1"/>
              <p:nvPr/>
            </p:nvSpPr>
            <p:spPr>
              <a:xfrm>
                <a:off x="1019160" y="4808520"/>
                <a:ext cx="686772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rawing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verb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rPr>
                            <m:lit/>
                            <m:nor/>
                          </m:rPr>
                          <m:t xml:space="preserve">ways</m:t>
                        </m:r>
                        <m:r>
                          <m:rPr>
                            <m:lit/>
                            <m:nor/>
                          </m:rPr>
                          <m:t xml:space="preserve">to</m:t>
                        </m:r>
                        <m:r>
                          <m:rPr>
                            <m:lit/>
                            <m:nor/>
                          </m:rPr>
                          <m:t xml:space="preserve">get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ver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ll</m:t>
                        </m:r>
                        <m:r>
                          <m:rPr>
                            <m:lit/>
                            <m:nor/>
                          </m:rPr>
                          <m:t xml:space="preserve">word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Probability and part of speech tag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 the probability of a random word (from a random dictionary page) being a verb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to compute each of the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words = just count all the words in the dictiona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# of ways to get a verb: number of words which are verbs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a dictionary has 50,000 entries, and 10,000 are verbs…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0/50000 = 1/5 = .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2"/>
              <p:cNvSpPr txBox="1"/>
              <p:nvPr/>
            </p:nvSpPr>
            <p:spPr>
              <a:xfrm>
                <a:off x="1676520" y="2819520"/>
                <a:ext cx="541008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rawing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verb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rPr>
                            <m:lit/>
                            <m:nor/>
                          </m:rPr>
                          <m:t xml:space="preserve">ways</m:t>
                        </m:r>
                        <m:r>
                          <m:rPr>
                            <m:lit/>
                            <m:nor/>
                          </m:rPr>
                          <m:t xml:space="preserve">to</m:t>
                        </m:r>
                        <m:r>
                          <m:rPr>
                            <m:lit/>
                            <m:nor/>
                          </m:rPr>
                          <m:t xml:space="preserve">get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ver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ll</m:t>
                        </m:r>
                        <m:r>
                          <m:rPr>
                            <m:lit/>
                            <m:nor/>
                          </m:rPr>
                          <m:t xml:space="preserve">word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onditional Probability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way to reason about the outcome of an experiment based on partial inform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a word guessing game the first letter for the word is a 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 What is the likelihood that the second letter is an 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likely is it that a person has a disease given that a medical test was negativ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spot shows up on a radar screen.  How likely is it that it corresponds to an aircraft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More precisely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n an experiment, a corresponding sample spa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a probability la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se we know that the outcome is within some given eve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want to quantify the likelihood that the outcome also belongs to some other given eve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need a new probability law that gives us the conditional probability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giv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An intui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’s raining now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 Tuscany is .0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was raining ten minutes ago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ans 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is the probability of it raining now if it was raining 10 minutes ago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probably way higher th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hap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.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uition: The knowledge abou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hould change our estimate of the probability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babil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ic prob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ditional prob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onditional probability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of the following 30 items is chosen at rando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the probability that it is a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|red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the probability that it is a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given that it is red?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512720" y="4343400"/>
          <a:ext cx="6096240" cy="1854360"/>
        </p:xfrm>
        <a:graphic>
          <a:graphicData uri="http://schemas.openxmlformats.org/drawingml/2006/table">
            <a:tbl>
              <a:tblPr/>
              <a:tblGrid>
                <a:gridCol w="1016280"/>
                <a:gridCol w="1015920"/>
                <a:gridCol w="1015920"/>
                <a:gridCol w="1015920"/>
                <a:gridCol w="1016280"/>
                <a:gridCol w="1015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Oval 8"/>
          <p:cNvSpPr/>
          <p:nvPr/>
        </p:nvSpPr>
        <p:spPr>
          <a:xfrm>
            <a:off x="3429000" y="3657600"/>
            <a:ext cx="3124080" cy="266688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onditional Probability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e ev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the </a:t>
            </a:r>
            <a:r>
              <a:rPr b="0" i="1" lang="en-US" sz="2400" spc="-1" strike="noStrike">
                <a:solidFill>
                  <a:srgbClr val="a50021"/>
                </a:solidFill>
                <a:latin typeface="Calibri"/>
              </a:rPr>
              <a:t>probabilit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ev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a50021"/>
                </a:solidFill>
                <a:latin typeface="Calibri"/>
              </a:rPr>
              <a:t>occurring give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v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a50021"/>
                </a:solidFill>
                <a:latin typeface="Calibri"/>
              </a:rPr>
              <a:t>occurr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definition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/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1"/>
          <p:cNvSpPr/>
          <p:nvPr/>
        </p:nvSpPr>
        <p:spPr>
          <a:xfrm>
            <a:off x="4114800" y="4572000"/>
            <a:ext cx="1219320" cy="1143000"/>
          </a:xfrm>
          <a:prstGeom prst="ellipse">
            <a:avLst/>
          </a:prstGeom>
          <a:solidFill>
            <a:srgbClr val="00b0f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Oval 7"/>
          <p:cNvSpPr/>
          <p:nvPr/>
        </p:nvSpPr>
        <p:spPr>
          <a:xfrm>
            <a:off x="4735440" y="4572000"/>
            <a:ext cx="1513080" cy="1143000"/>
          </a:xfrm>
          <a:prstGeom prst="ellipse">
            <a:avLst/>
          </a:prstGeom>
          <a:solidFill>
            <a:srgbClr val="ffff00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onditional Probability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3962520" y="4133880"/>
            <a:ext cx="495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|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· 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s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|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· 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|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· 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Oval 11"/>
          <p:cNvSpPr/>
          <p:nvPr/>
        </p:nvSpPr>
        <p:spPr>
          <a:xfrm>
            <a:off x="1103400" y="4267080"/>
            <a:ext cx="1218960" cy="1143000"/>
          </a:xfrm>
          <a:prstGeom prst="ellipse">
            <a:avLst/>
          </a:prstGeom>
          <a:solidFill>
            <a:srgbClr val="00b0f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Oval 12"/>
          <p:cNvSpPr/>
          <p:nvPr/>
        </p:nvSpPr>
        <p:spPr>
          <a:xfrm>
            <a:off x="1724040" y="4267080"/>
            <a:ext cx="1512720" cy="1143000"/>
          </a:xfrm>
          <a:prstGeom prst="ellipse">
            <a:avLst/>
          </a:prstGeom>
          <a:solidFill>
            <a:srgbClr val="ffff00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Box 1"/>
          <p:cNvSpPr/>
          <p:nvPr/>
        </p:nvSpPr>
        <p:spPr>
          <a:xfrm>
            <a:off x="1771560" y="4668840"/>
            <a:ext cx="5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7"/>
              <p:cNvSpPr txBox="1"/>
              <p:nvPr/>
            </p:nvSpPr>
            <p:spPr>
              <a:xfrm>
                <a:off x="2322360" y="2384280"/>
                <a:ext cx="435132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∩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Bayes’ Theorem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3962160"/>
            <a:ext cx="7772400" cy="257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ior probabil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osterior probabil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4"/>
              <p:cNvSpPr txBox="1"/>
              <p:nvPr/>
            </p:nvSpPr>
            <p:spPr>
              <a:xfrm>
                <a:off x="2616120" y="2305080"/>
                <a:ext cx="346392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Independenc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85440" y="16761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re independent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·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iff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dependent.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a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ai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a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·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ai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.5 · .5 = .2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ot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|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f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independ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lso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|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f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independ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Independent Event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4343040"/>
            <a:ext cx="7772400" cy="219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/100 = 15/6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100 = 25/10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/1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8"/>
          <p:cNvSpPr/>
          <p:nvPr/>
        </p:nvSpPr>
        <p:spPr>
          <a:xfrm>
            <a:off x="2819520" y="1905120"/>
            <a:ext cx="2971800" cy="229536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540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 =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1"/>
          <p:cNvSpPr/>
          <p:nvPr/>
        </p:nvSpPr>
        <p:spPr>
          <a:xfrm>
            <a:off x="3200400" y="2557440"/>
            <a:ext cx="1371600" cy="990720"/>
          </a:xfrm>
          <a:prstGeom prst="ellipse">
            <a:avLst/>
          </a:prstGeom>
          <a:solidFill>
            <a:srgbClr val="00b0f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Oval 7"/>
          <p:cNvSpPr/>
          <p:nvPr/>
        </p:nvSpPr>
        <p:spPr>
          <a:xfrm>
            <a:off x="4152960" y="2666880"/>
            <a:ext cx="1409760" cy="1295640"/>
          </a:xfrm>
          <a:prstGeom prst="ellipse">
            <a:avLst/>
          </a:prstGeom>
          <a:solidFill>
            <a:srgbClr val="ffff00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Box 1"/>
          <p:cNvSpPr/>
          <p:nvPr/>
        </p:nvSpPr>
        <p:spPr>
          <a:xfrm>
            <a:off x="4216320" y="2975040"/>
            <a:ext cx="5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ounded Rectangular Callout 3"/>
          <p:cNvSpPr/>
          <p:nvPr/>
        </p:nvSpPr>
        <p:spPr>
          <a:xfrm>
            <a:off x="304920" y="3733920"/>
            <a:ext cx="2133360" cy="609480"/>
          </a:xfrm>
          <a:prstGeom prst="wedgeRoundRectCallout">
            <a:avLst>
              <a:gd name="adj1" fmla="val 29652"/>
              <a:gd name="adj2" fmla="val 85148"/>
              <a:gd name="adj3" fmla="val 16667"/>
            </a:avLst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pen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Box 3"/>
          <p:cNvSpPr/>
          <p:nvPr/>
        </p:nvSpPr>
        <p:spPr>
          <a:xfrm>
            <a:off x="5265720" y="4370400"/>
            <a:ext cx="3581280" cy="703800"/>
          </a:xfrm>
          <a:prstGeom prst="rect">
            <a:avLst/>
          </a:prstGeom>
          <a:gradFill rotWithShape="0">
            <a:gsLst>
              <a:gs pos="0">
                <a:srgbClr val="b7c4ff"/>
              </a:gs>
              <a:gs pos="100000">
                <a:srgbClr val="e8ecff"/>
              </a:gs>
            </a:gsLst>
            <a:lin ang="16200000"/>
          </a:gradFill>
          <a:ln w="9360">
            <a:solidFill>
              <a:srgbClr val="a7b2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Independence does not mean dis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Independence Revisited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four statements are equivalent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independent ev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A and B) = P(A) • P(B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A|B) = P(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B|A) = P(B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Monty Hall Problem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testant is shown three door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of the doors have goats behind them and one has a ca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testant chooses a doo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fore opening the chosen door, Monty Hall opens a door that has a goat behind i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testant can then switch to the other unopened door, or stay with the original choic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is best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olu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the sample space: door Car, A, 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three option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stant chooses Car. If she switches, she loses; if she stays, she wi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stant chooses A with goat. If she switches, she wins; otherwise she los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stant chooses B with goat. If she switches, she wins; otherwise she los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itching gives 2/3 chances of win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440" y="5029200"/>
            <a:ext cx="3886200" cy="150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hoice = Car) = 1/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3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2441520" cy="22129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"/>
          <p:cNvPicPr/>
          <p:nvPr/>
        </p:nvPicPr>
        <p:blipFill>
          <a:blip r:embed="rId2"/>
          <a:stretch/>
        </p:blipFill>
        <p:spPr>
          <a:xfrm>
            <a:off x="5867280" y="1905120"/>
            <a:ext cx="2286000" cy="2324160"/>
          </a:xfrm>
          <a:prstGeom prst="rect">
            <a:avLst/>
          </a:prstGeom>
          <a:ln w="0">
            <a:noFill/>
          </a:ln>
        </p:spPr>
      </p:pic>
      <p:sp>
        <p:nvSpPr>
          <p:cNvPr id="222" name="Content Placeholder 2"/>
          <p:cNvSpPr/>
          <p:nvPr/>
        </p:nvSpPr>
        <p:spPr>
          <a:xfrm>
            <a:off x="4648320" y="4572000"/>
            <a:ext cx="44956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hoice = Car | Open) = 1/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ing door does not 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other = Car | Open) = 2/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Introduction to Probability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eriment (trial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peatable procedure with well-defined possible outcom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mple Space (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et of all possible outcom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finite or infini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in toss experi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ssible outcomes: S = {heads, tails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e toss experi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ssible outcomes: S = {1,2,3,4,5,6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6248520" y="4952880"/>
            <a:ext cx="1239840" cy="12826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"/>
          <p:cNvPicPr/>
          <p:nvPr/>
        </p:nvPicPr>
        <p:blipFill>
          <a:blip r:embed="rId2"/>
          <a:stretch/>
        </p:blipFill>
        <p:spPr>
          <a:xfrm>
            <a:off x="6324480" y="3848040"/>
            <a:ext cx="1333800" cy="10033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6"/>
          <p:cNvSpPr/>
          <p:nvPr/>
        </p:nvSpPr>
        <p:spPr>
          <a:xfrm>
            <a:off x="1337760" y="6537240"/>
            <a:ext cx="236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lide from Sandiway Fo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ba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ditional Proba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epende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Additional Material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33"/>
                </a:solidFill>
                <a:uFillTx/>
                <a:latin typeface="Arial"/>
                <a:hlinkClick r:id="rId1"/>
              </a:rPr>
              <a:t>http://onlinestatbook.com/chapter5/probability.htm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Introduction to Probability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ition of sample space depends on what we are ask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mple Space (S): the set of all possible outcom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e toss experiment for whether the number is even or od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ssible outcomes: {even,odd}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{1,2,3,4,5,6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5943600" y="4495680"/>
            <a:ext cx="1828800" cy="18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More definition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v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eve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s any subset of outcomes from the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sample spa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e toss experiment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t A represent the event such that the outcome of the die toss experiment is divisible by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= {3,6}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is a subset of the sample space S= {1,2,3,4,5,6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raw a card from a de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99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ppose sample space S = {heart,spade,club,diamond} 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four suit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t A represent the event of drawing a hea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t B represent the event of drawing a red car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= {heart}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 = {heart,diamond}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7315200" y="5334120"/>
            <a:ext cx="77796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Introduction to Probability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defini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n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se operation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n be performed in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ays, th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sequence of k operations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..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be performed in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..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ay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e toss experiment, 6 possible outcom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dice are thrown at the same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mber of sample points in sample space = 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6 = 3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7086600" y="5346720"/>
            <a:ext cx="1765440" cy="13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Definition of Probability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robability law assigns to an even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 nonnegative nu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ritt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lled the probabilit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at encodes our knowledge or belief about the collective likelihood of all the elements o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bability must satisfy certain axioms (Kolmogorov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w Cen MT Condensed"/>
              </a:rPr>
              <a:t>Probability Axioms</a:t>
            </a:r>
            <a:endParaRPr b="0" lang="en-US" sz="4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50021"/>
                </a:solidFill>
                <a:latin typeface="Calibri"/>
              </a:rPr>
              <a:t>Nonnegativity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for every even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50021"/>
                </a:solidFill>
                <a:latin typeface="Calibri"/>
              </a:rPr>
              <a:t>Additivit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re two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disjoint event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then the probability of their union (either one or the other occurs) satisfie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50021"/>
                </a:solidFill>
                <a:latin typeface="Calibri"/>
              </a:rPr>
              <a:t>Monotonicity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for any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50021"/>
                </a:solidFill>
                <a:latin typeface="Calibri"/>
              </a:rPr>
              <a:t>Normalizati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probability of the entire sample spac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s equal to 1, i.e.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= 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ounded Rectangular Callout 1"/>
          <p:cNvSpPr/>
          <p:nvPr/>
        </p:nvSpPr>
        <p:spPr>
          <a:xfrm>
            <a:off x="5715000" y="1981080"/>
            <a:ext cx="2438280" cy="838440"/>
          </a:xfrm>
          <a:prstGeom prst="wedgeRoundRectCallout">
            <a:avLst>
              <a:gd name="adj1" fmla="val -46467"/>
              <a:gd name="adj2" fmla="val 74842"/>
              <a:gd name="adj3" fmla="val 16667"/>
            </a:avLst>
          </a:prstGeom>
          <a:solidFill>
            <a:srgbClr val="f2f2f2"/>
          </a:solidFill>
          <a:ln cap="sq" w="1260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experiment involving a single coin to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are two possible outcomes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mple space S i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H,T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coin is fair, should assign equal probabilities to 2 outcom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ce they have to sum to 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{H}) = 0.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{T}) = 0.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{H,T}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{H})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{T}) = 1.0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22:06:14Z</dcterms:created>
  <dc:creator>Dan Jurafsky</dc:creator>
  <dc:description/>
  <cp:keywords/>
  <dc:language>en-US</dc:language>
  <cp:lastModifiedBy>Giuseppe Attardi</cp:lastModifiedBy>
  <cp:lastPrinted>2009-01-13T00:24:00Z</cp:lastPrinted>
  <dcterms:modified xsi:type="dcterms:W3CDTF">2016-09-29T11:34:42Z</dcterms:modified>
  <cp:revision>222</cp:revision>
  <dc:subject/>
  <dc:title>LSA.303 Introduction to Computational Linguistics</dc:title>
</cp:coreProperties>
</file>